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E8B-752C-4195-BBC0-15BD0AF0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4325-4143-4AF3-A7FD-346663A7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6D26-A198-4957-B302-03498EA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1A4-247D-4FF5-965E-5CF70DC7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473F-A4BC-4180-A168-066A5CF2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3C03-8F7C-4DD3-9303-74C948B3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1D07-D059-4EEC-8792-5BA93FF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48458-4831-4FBD-A698-C52564C3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279B5-6631-4A92-BCEA-EE38B22B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4C47-5518-4B8F-99D0-7EA3C555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5904-6344-4826-99DA-C49C6E5A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03D-55CF-4AC3-AEE0-99790902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1B2D-F45A-4C88-A0BE-92B7516A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1447-9649-453D-85EB-54DEAE5B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F83-AFA7-4A16-ACB2-2ED14F9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C2046-67C9-446B-997C-74B224CA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94C6-44A5-49C6-90BD-8E39A626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764E-DF01-472D-9D8A-BF26110C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71C-F2B0-4838-B275-D5F921C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7ABE-6C8F-4E79-B48C-D6F67C4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23E3-78CB-495C-BEE6-B6044AB0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0F3-965D-4A49-8577-475244F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54CD-B561-4DC3-835D-63D1BCE3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DD5-6E77-4D2F-8461-4C15EBA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E37C-638E-456C-A48A-AEBEB8E878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A81-719F-478C-B6AC-CC15833465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5 Biogeochemical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 Cas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ydrologic Cycle: Ch 19 in deta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Global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carbo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eous (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Most important organic comp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the nitroge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trogen Cy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most of the atm (about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trogen cycle key steps!!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in atmosphere as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n in the so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itrogen fix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xes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a form plants can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t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 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living th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Plants absorb nitrates and ammonia 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971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soil agai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the atm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ymbiosis - Crop Ro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has no atm st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affect its’ use by l.t.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gaseou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rocks and organic material in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s to microbial action, changed to phosphates  (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which plants can access. (slow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a biogeochemical cyc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aken to cycle va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lements fas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gaseous sl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ologic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ton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continent spreading and converging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 layer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 fault 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fault  = sli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gent = coll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 sp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tosborne</cp:lastModifiedBy>
  <dcterms:modified xsi:type="dcterms:W3CDTF">2010-09-30T14:41:23Z</dcterms:modified>
  <cp:revision>41</cp:revision>
  <dc:subject/>
  <dc:title>Chapter 4 Biogeochemical Cycles</dc:title>
</cp:coreProperties>
</file>